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C873-2B2E-4EA4-A6D2-587265D95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D7E-4E47-4AB7-9EFD-85AE9C59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F7A-A616-4EF8-BD50-4EA655BD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AA2-128C-4FFA-B689-0F06754D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0D9-1442-4CAE-83B2-8D9CD021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E9A4-5F6A-431B-9729-FC64E2AA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27BF-7873-4E25-A5B9-6BC698BB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5375-52CF-415D-9C3E-F442DF7D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9F03-0D11-48D5-BAED-FFC8DC7B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1F06-DC67-41AB-AB2A-55F5711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CC35-36B7-449D-BF92-61E9E640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EDD9-FA2F-4EC1-8E65-5D279D48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E93-B909-47FD-8139-43775957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FD73-1317-402A-B5B2-2A4451A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F2B8-C6E8-453F-85FA-3A72E227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064B-30C3-492C-96EF-B55CF6DF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5662-D0EF-4239-9764-A7B19EFC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9D8F-713D-4279-9296-A17E86E2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1A2-B63D-4300-9C39-370B0D60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1FE-6292-4CA2-AC68-EC8B4BD9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914-5C2B-4097-B618-EF916DE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119-7842-42B0-98D0-FA5392A2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94C-A07E-4624-B6BE-EFF7AC53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9BD-9901-43C8-9DF3-5A48249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E59-BA94-4549-8281-2F0A0BB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EC57-C4FF-43B2-9D29-E223D26B6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29E8-152E-4861-B58A-556C4446C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erms with the same variables raised to the sam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943600" y="32767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ining 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 +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ecting Like Terms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905120"/>
                <a:ext cx="66294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th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Program Files\Microsoft Office\Clipart\standard\stddir1\bd05053_.wmf"/>
          <p:cNvPicPr/>
          <p:nvPr/>
        </p:nvPicPr>
        <p:blipFill>
          <a:blip r:embed="rId1"/>
          <a:stretch/>
        </p:blipFill>
        <p:spPr>
          <a:xfrm>
            <a:off x="3429000" y="3962520"/>
            <a:ext cx="3083040" cy="211428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505320" y="51055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3880" y="1828800"/>
            <a:ext cx="6570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523880" y="3352680"/>
            <a:ext cx="7162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2x–3xy +4y  when x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y =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4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143000" y="19810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8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3733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95280" y="182880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7"/>
          <p:cNvSpPr/>
          <p:nvPr/>
        </p:nvSpPr>
        <p:spPr>
          <a:xfrm>
            <a:off x="1219320" y="23623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505320" y="4419720"/>
                <a:ext cx="2438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733920" y="5181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4419720" y="5715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29200" y="3962520"/>
          <a:ext cx="3429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342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029200" y="2438280"/>
          <a:ext cx="34290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438280"/>
                    <a:ext cx="34290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219320" y="3962520"/>
          <a:ext cx="35146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962520"/>
                    <a:ext cx="35146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19320" y="2438280"/>
          <a:ext cx="3504960" cy="143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438280"/>
                    <a:ext cx="350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gebraic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gebra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real numbers, variables, grouping symbols and operation symb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295280" y="4495680"/>
                <a:ext cx="706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nsider the example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s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parated by addition. There are 3 terms in this example and they a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variable term is the real number factor. The first term has coefficient of 5. The second term has an unwritten coefficient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term , -7,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re is no variable in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2880" y="685800"/>
                <a:ext cx="148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523880" y="2514600"/>
                <a:ext cx="1524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stributive Proper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040" y="46483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43000" y="190512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3048120"/>
            <a:ext cx="36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4360" y="42670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6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+ 2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-4(x –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– 3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3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actice Probl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x – 2 )  = x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xamples with 1 and –1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(x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x –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-(4x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30:02Z</dcterms:created>
  <dc:creator>TCC</dc:creator>
  <dc:description/>
  <dc:language>en-US</dc:language>
  <cp:lastModifiedBy>LEGION</cp:lastModifiedBy>
  <dcterms:modified xsi:type="dcterms:W3CDTF">2017-07-06T06:39:42Z</dcterms:modified>
  <cp:revision>31</cp:revision>
  <dc:subject/>
  <dc:title>Simplifying Expressions</dc:title>
</cp:coreProperties>
</file>